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216-1C1B-44B8-871D-82625EA5A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04F-5606-42A7-8767-2880DCC9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ACE2-207B-4CEC-8715-5C6A3C15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7224-A769-4532-96C2-49CA1D6F6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8B5-E167-451B-8D43-4D68AA7D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BE9-CCAA-4A9A-A522-A9CED7CD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F63-B7E8-4145-B573-C0B044B8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6A63-C210-40D3-9202-763D2960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33A1-5D33-497B-9AAD-6422AD847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4A63-173D-4982-85F1-4BE27E44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86E-2FF6-4907-B75F-D6467B25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A19-00B1-4E05-B577-7618AB21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AC2D-794D-4F02-9C28-B5109800853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chess555.narod.ru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5.png"/><Relationship Id="rId14" Type="http://schemas.openxmlformats.org/officeDocument/2006/relationships/image" Target="../media/image16.jpeg"/><Relationship Id="rId15" Type="http://schemas.openxmlformats.org/officeDocument/2006/relationships/image" Target="../media/image17.jpeg"/><Relationship Id="rId16" Type="http://schemas.openxmlformats.org/officeDocument/2006/relationships/image" Target="../media/image18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 Сухин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ам о междисциплинарном здоровьесберегающем курсе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Шахматы – школе»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Сухин_фото_20"/>
          <p:cNvPicPr/>
          <p:nvPr/>
        </p:nvPicPr>
        <p:blipFill>
          <a:blip r:embed="rId1"/>
          <a:stretch/>
        </p:blipFill>
        <p:spPr>
          <a:xfrm>
            <a:off x="8172360" y="18900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7640" y="259920"/>
            <a:ext cx="568836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й урок в начальной школе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четание тайны,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инственности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А.М.Волкову)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меха, юмора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 Н.Н.Носову и Э.Н.Успенскому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каждый урок курса «Шахматы – школе» одновременно: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рок-сказка; 2) урок-театр;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рок-дидактическая игра; 4) урок-тайна; 5) урок-удивление; 6) урок-погружение  в мир забавных и занимательных заданий; 7) урок без неуспевающих; 8) урок-сотворчество; 9) урок-здоровьесбережени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у работы педагога по курсу «Шахматы – школе» составляет организация процесса решения учениками занимательных головоломок, составленных с помощью шахматного материала (шахматных фигур на шахматных досках), и проведение доступных дидактических игр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ас учитель начальных классов упускает на уроках то, что лежит между условием задачи и ее ответом. Учителя нередко требуют получение правильного ответа, не интересуясь ходом рассуждений ученика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ри работе по «Шахматно-задачной технологии» ключевым становится именно акцент на ход мыслей ребенка, который привел его к правильным или к неправильным вывод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урок рассматривается как четко структурированная здоровьесберегающая система решения постепенно усложняющихся занимательных развивающих заданий и организация развивающих дидактических игр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доказала, что для учащихся начальных классов шахматные задачи и головоломки курса «Шахматы –  школе» часто оказываются интереснее, чем игра в шахмат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Неудивительно, что многочисленные опросы детей, с которыми занимались по «Шахматно-задачной технологии», показали, что урок шахмат нравится почти 100% учеников. Есть мотивация – есть и успешность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24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показал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, что при качественном преподавании курса «Шахматы – школе» большая часть детей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учится на 4 и 5 почти по всем предметам основной школьной программы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) приобретает способность выполнять домашние задания по всем предметам без помощи родителей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3) в дальнейшем успешно поступает в вузы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Безусловно, родителей не может не радовать такая перспектив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заблуждениях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ичным заблуждением является то, что шахматы полезны сами по себе. Это не так – шахматы для системы образовани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сё дело исключительно в том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он используетс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А с 2016 года в ряде регионов как грибы стали появляться шахматные учебники, которые стали навязываться системе образования как «школьные».  Работать по ним учителям не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всех этих «школьных» учебниках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явленная цель – научить детей играть в шахмат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 учить должны учителя, которые сами не умеют играть и только что получили сертификат на право преподавания (на краткосрочных курсах повышения квалификации)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то тупиковый пут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 эти учителя должны всего при одном уроке в неделю научить всех детей именно играть в шахматы?! Большую глупость и придумать трудно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если мы говорим о массовой школ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а не о педагоге-уникуме! Это ведёт лишь к профанации великой иде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не учитывается, к примеру, что неопытный учитель не сможет качественно проконтролировать даже одну пару играющих в шахматы на предмет нарушения правил шахматной игры. Особенно, если сделан недопустимый правилами ход (а это будет сплошь и рядом) и т.п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на курсах повышения квалификации авторы подобных учебников уверяют учителей, что шахматы –  лёгкая игра. Это не так, это –  ложь. Чтобы научиться играть в шахматы даже на мало-мальски приемлемом уровне нужно пуд соли съесть…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А вот в курсе «Шахматы – школе» с применением «Шахматно-задачной технологии»  всё учтено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7993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0.08.2019: Министр просвещения РФ Ольга Юрьевна Васильева подтвердила: шахматы, интеллектуальное развитие, аналитическое мышление – взаимосвязанные вещи... И ранее: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5.02.2019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Шахматы – это не спорт, это искусство, это наука и творчество»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0.01.2017: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ичто не развивает ребенка так, как шахматы»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3.09.2016:  О.Ю.Васильева: «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Я уверена, что спорт, шахматы и музыка – это три кита, на которых основывается воспитание гармоничной личност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2" descr="Васильева_министрПр.jpg"/>
          <p:cNvPicPr/>
          <p:nvPr/>
        </p:nvPicPr>
        <p:blipFill>
          <a:blip r:embed="rId1"/>
          <a:stretch/>
        </p:blipFill>
        <p:spPr>
          <a:xfrm>
            <a:off x="7885080" y="90360"/>
            <a:ext cx="11304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отличия курса «Шахматы – школе» от других курсов: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1) курс научно обоснован; 2) курс максимально практико-ориентирован; 3) курс – здоровьесберегающий; 4) для курса разработана эффективная технология обучения – шахматно-задачная (включающая комплекс развивающих занимательных заданий и дидактических игр); 5) курс реализуется в двух вариантах: трёхлетний (со 2-го по 4-й классы) и четырехлетний (с 1-го по 4-й классы); 6) курс доступен для учителей с изначально нулевой шахматной подготовкой; 7) курс пронизан межпредметными связями со многими учебными дисциплинами; 8) курс диагностируем, так как способность действовать «в уме» имеет 5 диагностируемых этапов разви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Второй год обучения. – 3-е изд. – Обнинск: Духовное возрождение, 2016. – 27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Первый год обучения. 1500 малофигурных позиций. – 6-е изд. – Обнинск: Духовное возрождение, 2019. – 272 с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Задачи к курсу «Шахматы – школе». Третий год обучения. – Обнинск: Духовное возрождение, 2014. – 3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Еще раз о концепции федерального курса «Шахматы – школе» // Интеллектуал Зауралья (шахматное образование) – 2016: сборник материалов для участников VI областного фестиваля по шахматам «Папа + Мама + Школа +Я = Шахматная семья». 14 декабря 2016 г. / Курган: Институт развития образования и социальных технологий», 2016. – С. 20- 28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Программы курса «Шахматы – школе»: Для начальных классов общеобразовательных учреждений. – 4-е изд. – Обнинск: Духовное возрождение, 2016. – 4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1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Рабочая тетрадь: В 2-х частях. Часть 2. – 8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Тетрадь для проверочных работ. – 5-е изд. – Обнинск: Духовное возрождение, 2018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1. – 7-е изд. – Обнинск: Духовное возрождение, 2019. – 8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Играем и выигрываем: Учебник для начальной школы, второй год обучения: В 2-х частях. Часть 2. – 7-е изд. – Обнинск: Духовное возрождение, 2019. – 80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второй год, или Учусь и учу. – 4-е изд. – Обнинск: Духовное возрождение, 2017. – 104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1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Рабочая тетрадь: В 2-х частях. Часть 2. – 9-е изд. – Обнинск: Духовное возрождение, 2019. – 32 с.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Тетрадь для проверочных работ. – 7-е изд. – Обнинск: Духовное возрождение, 2018. – 32 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893080" cy="612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1. – 8-е изд. – Обнинск: Духовное возрождение, 2018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Там клетки черно-белые чудес и тайн полны: Учебник для начальной школы, первый год обучения. В 2-х частях. Часть 2. – 8-е изд. – Обнинск: Духовное возрождение, 2018. – 88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первый год, или Учусь и учу:  Пособие для учителя. – 4-е изд. – Обнинск: Духовное возрождение, 2019. – 12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1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Рабочая тетрадь: Часть 2. – 6-е изд. – Обнинск: Духовное возрождение, 2019.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Тетрадь для проверочных работ. – 4-е изд. – Обнинск: Духовное возрождение, 2016.  – 32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1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Тайны королевской игры: Учебник для начальной школы, третий год обучения: В 2-х частях. Часть 2. – 4-е изд. – Обнинск: Духовное возрождение, 2019. – 80 с.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ухин И.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Шахматы, третий год, или Учусь и учу. – 3-е изд. – Обнинск: Духовное возрождение, 2016. – 224 с. </a:t>
            </a:r>
            <a:br>
              <a:rPr sz="1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 реальным положением дел по тематике шахматного образования можно познакомиться только в новостях Сайта шахматного всеобуча – на главной странице сайта </a:t>
            </a:r>
            <a:r>
              <a:rPr b="0" lang="ru-RU" sz="44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chess555.narod.ru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809172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Г.Сухин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Итал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Сухин_фото_20"/>
          <p:cNvPicPr/>
          <p:nvPr/>
        </p:nvPicPr>
        <p:blipFill>
          <a:blip r:embed="rId1"/>
          <a:stretch/>
        </p:blipFill>
        <p:spPr>
          <a:xfrm>
            <a:off x="34920" y="2819520"/>
            <a:ext cx="79200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152280" y="6381720"/>
            <a:ext cx="715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ю подготовил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9.2019 И.Г.Сухи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7848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7 августа 2019 года президент Международной шахматной федерации (ФИДЕ) Аркадий Владимирович Дворкович сообщил ТАСС, что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1) шахматы должны использоваться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в качестве образовательного инструмента в школах для улучшения интеллектуальных способностей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;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2)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«шахматы должны использоваться именно как средство образования, а не как обязательная игра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это изначально заложено в курсе «Шахматы – школе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озволяет педагогам качественно проводить шахматные занятия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Дворкович.jpg"/>
          <p:cNvPicPr/>
          <p:nvPr/>
        </p:nvPicPr>
        <p:blipFill>
          <a:blip r:embed="rId1"/>
          <a:stretch/>
        </p:blipFill>
        <p:spPr>
          <a:xfrm>
            <a:off x="7667640" y="189000"/>
            <a:ext cx="124128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9F1E8-BD5C-464A-A0C9-A6136D7EEF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61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2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апробирован в большом количестве отечественных регионов и обеспечен всеми необходимыми материалами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него входят: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рабочие программы 4-х лет обучени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чебники для учеников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собия для учителя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бочие тетради  (в 2-х частях)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 тетради для проверочных работ;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) задачн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ОБЛЕГЧИТЬ РАБОТУ УЧИТЕЛЯ?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Ключевая фигура на уроке шахма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чит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Главный аспект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е требовать от учителя невозможного!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Чтобы не превратить урок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хмат в профанацию, следует максимально упростить работу педагога, не в ущерб содержательност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Поскольку цель уроков – системное развитие мышления, то преподавать следует по «Шахматно-задачной технологии обучения», легко осваиваемой учителями даже изначально не знающими правил шахматной иг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41672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е научного подхода «Шахматы – школе» – высветить всё то, что могут подарить шахматы детям, и реализовать в учебном курсе, любимом и детьми, и учителям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уроков шахмат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чётко структурированное, поэтапное развитие мышления детей, а процесс обучения шахматным азам – средство, инструмент, фон, на котором протекает развитие. Именно на это ориентирован курс «Шахматы – школе»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 курсе учтено, что лишь небольшой процент российских учителей начальных классов и воспитателей детских садов умеет играть в шахм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рс «Шахматы – школе» – это единая, целостная система – волшебный квадрат «Математика, логика, чтение, русский язык» в сердцевине которого находятся шахмат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8120" y="25905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ШАХМ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838080" y="762120"/>
            <a:ext cx="3733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МАТ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5334120" y="762120"/>
            <a:ext cx="2743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ГИЧЕСКИ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1219320" y="4343400"/>
            <a:ext cx="3047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ТЕРАТУРН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410080" y="4343400"/>
            <a:ext cx="3124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УКВЕННО-РЕЧЕВЫЕ ГОЛОВОЛОМ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666880" y="1676520"/>
            <a:ext cx="190512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2590920" y="1676520"/>
            <a:ext cx="4419360" cy="2904840"/>
            <a:chOff x="2590920" y="1676520"/>
            <a:chExt cx="4419360" cy="2904840"/>
          </a:xfrm>
        </p:grpSpPr>
        <p:sp>
          <p:nvSpPr>
            <p:cNvPr id="76" name="Line 9"/>
            <p:cNvSpPr/>
            <p:nvPr/>
          </p:nvSpPr>
          <p:spPr>
            <a:xfrm flipH="1">
              <a:off x="4571640" y="1676520"/>
              <a:ext cx="20574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 flipV="1">
              <a:off x="2590920" y="3362400"/>
              <a:ext cx="198108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1"/>
            <p:cNvSpPr/>
            <p:nvPr/>
          </p:nvSpPr>
          <p:spPr>
            <a:xfrm>
              <a:off x="4648320" y="3384720"/>
              <a:ext cx="236196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2:53:19Z</dcterms:created>
  <dc:creator>User PC</dc:creator>
  <dc:description/>
  <dc:language>en-US</dc:language>
  <cp:lastModifiedBy>home</cp:lastModifiedBy>
  <dcterms:modified xsi:type="dcterms:W3CDTF">2019-09-10T19:12:26Z</dcterms:modified>
  <cp:revision>114</cp:revision>
  <dc:subject/>
  <dc:title>Курсы для общеобразовательной школы «Шахматы – школе» и «Шахматы в школе»: их научный уровень и сравнительная характеристика. Июль, 2018 г.</dc:title>
</cp:coreProperties>
</file>